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xploration an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3049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3049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15240" y="6172200"/>
            <a:ext cx="990360" cy="3049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3049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xploration an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6208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6208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5240" y="6172200"/>
            <a:ext cx="990360" cy="26208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6208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8258040" y="447840"/>
            <a:ext cx="343080" cy="48564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8624880" y="461880"/>
            <a:ext cx="343080" cy="48600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xploration an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8258040" y="447840"/>
            <a:ext cx="343080" cy="48564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8624880" y="461880"/>
            <a:ext cx="343080" cy="48600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7805880" y="6127920"/>
            <a:ext cx="1338120" cy="32688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xploration an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258040" y="447840"/>
            <a:ext cx="343080" cy="48564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8624880" y="461880"/>
            <a:ext cx="343080" cy="48600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7805880" y="6127920"/>
            <a:ext cx="1338120" cy="326880"/>
          </a:xfrm>
          <a:prstGeom prst="rect">
            <a:avLst/>
          </a:prstGeom>
          <a:solidFill>
            <a:srgbClr val="fff2ae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6840" y="665280"/>
            <a:ext cx="8410320" cy="527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73280" y="1249200"/>
            <a:ext cx="6300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ter Route to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Henry’s ultimate goal—find water route around Africa to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d before goal accomplished; attempts to find such a route not aband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, Bartolomeu Dias became first to sail around southern tip of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ucrative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Gama’s trip inspired another expedition to India, led by Pedro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led west; sighted, claimed land that became known as 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ugal established trading centers; became rich, powerful European 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 G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7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co da G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out for India, stopped at several African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ed Muslim merchants actively involved in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ey took more than 10 months, eventually reached Calicut in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ion Atte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4660920" y="1143000"/>
            <a:ext cx="4025520" cy="4800240"/>
            <a:chOff x="4660920" y="1143000"/>
            <a:chExt cx="4025520" cy="4800240"/>
          </a:xfrm>
        </p:grpSpPr>
        <p:sp>
          <p:nvSpPr>
            <p:cNvPr id="230" name=""/>
            <p:cNvSpPr/>
            <p:nvPr/>
          </p:nvSpPr>
          <p:spPr>
            <a:xfrm>
              <a:off x="4660920" y="1659600"/>
              <a:ext cx="4025520" cy="42836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umbus reached island in Caribbean after about two months at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ought he had reached Asian islands known as Indies; called people living there Indi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493, returned to Spain with exotic items, including parrots, jewels, gold, plants unknown in Eur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anish believed Columbus found new route to Asia, hailed him as h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60920" y="1143000"/>
              <a:ext cx="4025520" cy="516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lumbus’ First Voy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" y="1143000"/>
            <a:ext cx="4025520" cy="4800240"/>
            <a:chOff x="457200" y="1143000"/>
            <a:chExt cx="4025520" cy="4800240"/>
          </a:xfrm>
        </p:grpSpPr>
        <p:sp>
          <p:nvSpPr>
            <p:cNvPr id="233" name=""/>
            <p:cNvSpPr/>
            <p:nvPr/>
          </p:nvSpPr>
          <p:spPr>
            <a:xfrm>
              <a:off x="457200" y="1659600"/>
              <a:ext cx="4025520" cy="4283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ain also eager to seek out new routes to riches of 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492, Spanish rulers agreed to pay for voyage by Italian sailor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ristopher Colum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umbus believed he could sail west from Spain, reach Ch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rect in theory, but figures he presented about earth’s size wr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 had no idea the Americas lay across Atl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143000"/>
              <a:ext cx="4025520" cy="516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talian Sai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of Voy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b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more voyages to Amer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believed he had reached A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not realized until about 1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r Amerigo Vespucci sailed coast of South America, concluded it was not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makers later named land America in his ho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they had found new land, Spanish set out to explore 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13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úñ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de Balboa led expedition across Isthmus of Pa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more than three weeks of travel, Balboa became first European to see Pacif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Balboa’s discovery, the Spanish realized they needed to cross another ocean to reach A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240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Spanish did not know was how large ocean might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ring adventurer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rdinand Magella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cided to sail west around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19, Magellan set out for Spain with five ships, 250 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est Around Wor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243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urney long, difficult; some men mutinied, rebe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gellan killed in fight with Philippine natives; his men sailed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22, 18 survivors of original fleet arrived back in Spain, first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umnaviga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erilous Voy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rdinand Magel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s and their Rou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, section 1, pages 472-4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4520" y="1371600"/>
            <a:ext cx="8454960" cy="391320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78000" y="1371600"/>
            <a:ext cx="4194000" cy="3940200"/>
          </a:xfrm>
          <a:prstGeom prst="rect">
            <a:avLst/>
          </a:prstGeom>
          <a:solidFill>
            <a:srgbClr val="fff2ae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4724280" y="1371600"/>
            <a:ext cx="4194360" cy="3940200"/>
          </a:xfrm>
          <a:prstGeom prst="rect">
            <a:avLst/>
          </a:prstGeom>
          <a:solidFill>
            <a:srgbClr val="fff2ae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4" action="ppaction://hlinksldjump"/>
          </p:cNvPr>
          <p:cNvSpPr/>
          <p:nvPr/>
        </p:nvSpPr>
        <p:spPr>
          <a:xfrm>
            <a:off x="825984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862632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639720"/>
            <a:ext cx="6086160" cy="530388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825984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862632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4" action="ppaction://hlinksldjump"/>
          </p:cNvPr>
          <p:cNvSpPr/>
          <p:nvPr/>
        </p:nvSpPr>
        <p:spPr>
          <a:xfrm>
            <a:off x="7970760" y="61563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35120" y="639720"/>
            <a:ext cx="5873760" cy="53038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25984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8626320" y="457200"/>
            <a:ext cx="35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8001000" y="6141960"/>
            <a:ext cx="9302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885960"/>
            <a:ext cx="8229600" cy="2182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da Gama, Columbus, and Magellan accomp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462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 Gama—reached India via sea; Columbus—landed in the Americas; Magellan—circumnavigated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ather was too cold, and he ended up heading west around the world to get back to England. He became the second man to circumnavigate the glo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143000"/>
            <a:ext cx="8229600" cy="1345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 and Portuguese did not remain alone in their effor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arly 1500s the English and French were exploring northern parts of the Ame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ch later joined in explo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200" y="2590920"/>
            <a:ext cx="4038120" cy="2437920"/>
            <a:chOff x="457200" y="2590920"/>
            <a:chExt cx="4038120" cy="2437920"/>
          </a:xfrm>
        </p:grpSpPr>
        <p:sp>
          <p:nvSpPr>
            <p:cNvPr id="267" name=""/>
            <p:cNvSpPr/>
            <p:nvPr/>
          </p:nvSpPr>
          <p:spPr>
            <a:xfrm>
              <a:off x="457200" y="3017160"/>
              <a:ext cx="4038120" cy="2011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97, first major English voyage of discovery launc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hn Cabot sailed to Atlantic coast of what is now 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ied to repeat voyage; fleet vanished, presumably su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2590920"/>
              <a:ext cx="4038120" cy="42624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he 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rs from the Rest of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648320" y="2590920"/>
            <a:ext cx="4038120" cy="2437920"/>
            <a:chOff x="4648320" y="2590920"/>
            <a:chExt cx="4038120" cy="2437920"/>
          </a:xfrm>
        </p:grpSpPr>
        <p:sp>
          <p:nvSpPr>
            <p:cNvPr id="271" name=""/>
            <p:cNvSpPr/>
            <p:nvPr/>
          </p:nvSpPr>
          <p:spPr>
            <a:xfrm>
              <a:off x="4648320" y="3017160"/>
              <a:ext cx="4038120" cy="2011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lish soon realized they had reached an unknown land, not As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en sen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r Francis Drak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fter stop in what is now California, Drake sailed north to seek route around 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2590920"/>
              <a:ext cx="4038120" cy="42624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ir Francis Dr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1143000"/>
            <a:ext cx="8229600" cy="1981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and wanted to find shorter route to Asia than Magellan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Dutch-born sail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Hud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7, Hudson set out to no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d to find Northeast Passage around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nothing but ice, returned to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made two more voyages for English, one for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76720"/>
            <a:ext cx="4038120" cy="2666520"/>
            <a:chOff x="457200" y="3276720"/>
            <a:chExt cx="4038120" cy="2666520"/>
          </a:xfrm>
        </p:grpSpPr>
        <p:sp>
          <p:nvSpPr>
            <p:cNvPr id="275" name=""/>
            <p:cNvSpPr/>
            <p:nvPr/>
          </p:nvSpPr>
          <p:spPr>
            <a:xfrm>
              <a:off x="457200" y="3742920"/>
              <a:ext cx="4038120" cy="22003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so wanted to find passage to As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 explorers to look for Northwest Pa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34, Jacques Cartier sailed past Newfoundland into St. Lawrence River, claimed land as province of New France, now 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3276720"/>
              <a:ext cx="4038120" cy="4662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Fre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48320" y="3276720"/>
            <a:ext cx="4038120" cy="2666520"/>
            <a:chOff x="4648320" y="3276720"/>
            <a:chExt cx="4038120" cy="2666520"/>
          </a:xfrm>
        </p:grpSpPr>
        <p:sp>
          <p:nvSpPr>
            <p:cNvPr id="278" name=""/>
            <p:cNvSpPr/>
            <p:nvPr/>
          </p:nvSpPr>
          <p:spPr>
            <a:xfrm>
              <a:off x="4648320" y="3742920"/>
              <a:ext cx="4038120" cy="2200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1600s Netherlands powerful trading nation, hoped to find new products, trading 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09, Henry Hudson set out to find Northwest Pa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d not find passage, but did explore river now named for h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8320" y="3276720"/>
              <a:ext cx="4038120" cy="4662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Du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Hud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s Map: European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ations of 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rs from Portugal an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Explorers and Their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rs from the Rest of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oyages of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05640" y="2455920"/>
            <a:ext cx="599760" cy="1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942840"/>
            <a:ext cx="8229600" cy="22370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English, French, and Dutch explorers hope to fi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46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horter route to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17800" y="646200"/>
            <a:ext cx="5319720" cy="529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7760" y="74124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to pla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sten to His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11040" y="205416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below to connect to the Interactive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69960" y="2789280"/>
            <a:ext cx="600120" cy="1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96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foundations upon which the Age of Exploration was buil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iscoveries were made by explorers from Portugal and Spai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rove explorers from the rest of Europ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the 1400s and 1500s European explorers—inspired by greed, curiosity, and the desire for glory, and aided by new technologies—sailed to many previously unknown la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yages of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1143000"/>
            <a:ext cx="8076960" cy="12312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issance spirit of discovery and innovation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it led Europeans to set sail on voyages of dis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is sometimes called the Age of 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3520" y="2514600"/>
            <a:ext cx="2590560" cy="3428640"/>
            <a:chOff x="533520" y="2514600"/>
            <a:chExt cx="2590560" cy="3428640"/>
          </a:xfrm>
        </p:grpSpPr>
        <p:sp>
          <p:nvSpPr>
            <p:cNvPr id="195" name=""/>
            <p:cNvSpPr/>
            <p:nvPr/>
          </p:nvSpPr>
          <p:spPr>
            <a:xfrm>
              <a:off x="533520" y="2883600"/>
              <a:ext cx="2590560" cy="3059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arch for w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uropeans desired expensive luxury goo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of goods controlled by Italian merch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ged high prices for these rare go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520" y="2514600"/>
              <a:ext cx="2590560" cy="3690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rive to Expl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2514600"/>
            <a:ext cx="2590560" cy="3428640"/>
            <a:chOff x="3276720" y="2514600"/>
            <a:chExt cx="2590560" cy="3428640"/>
          </a:xfrm>
        </p:grpSpPr>
        <p:sp>
          <p:nvSpPr>
            <p:cNvPr id="198" name=""/>
            <p:cNvSpPr/>
            <p:nvPr/>
          </p:nvSpPr>
          <p:spPr>
            <a:xfrm>
              <a:off x="3276720" y="2883600"/>
              <a:ext cx="2590560" cy="30596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ped to find new, faster routes to Asia to gain trade footho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alth not only go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 set out to find fame, gl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ped making great discoveries would bring honor to their na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2514600"/>
              <a:ext cx="2590560" cy="3690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w Ro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019920" y="2514600"/>
            <a:ext cx="2590560" cy="3428640"/>
            <a:chOff x="6019920" y="2514600"/>
            <a:chExt cx="2590560" cy="3428640"/>
          </a:xfrm>
        </p:grpSpPr>
        <p:sp>
          <p:nvSpPr>
            <p:cNvPr id="201" name=""/>
            <p:cNvSpPr/>
            <p:nvPr/>
          </p:nvSpPr>
          <p:spPr>
            <a:xfrm>
              <a:off x="6019920" y="2883600"/>
              <a:ext cx="2590560" cy="3059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explorers hoped to spread their faith into new la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other motive—simple curio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ings like Marco Polo’s very popular in Europe, intrigued many with tales of exotic lands, peo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2514600"/>
              <a:ext cx="2590560" cy="3690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aith, Curio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ation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271680"/>
            <a:ext cx="8229600" cy="2689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vi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lors needed precise means to calculate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ss brought to Europe from China, let know sailors know which direction was north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s learned to use astrolabe from Mus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s could chart location based on sun, stars in relation to hori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833400"/>
            <a:ext cx="8229600" cy="2289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s i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ever reasons for exploring, Europeans could not have made voyages of discovery without certain key advances i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dvances made in Europe during Rena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borrowed from people with whom Europeans had contact, especially Chinese, Mus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rov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as important as advances in navigation were advances in ship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s learned to build ships that rode lower in water than earlier 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raft ships could withstand heavier waves; also had larger cargo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pular for Exploratory Voy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vel would also be equipped with weapons, including cann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s could face off against hostile ships at 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euverability, defensive ability made caravel most popular for expl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av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ight, fast sailing ship; two features made it highly maneuv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red with rudder at stern, rather than with side o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lateen, triangular, sails; could be turned to catch wind from an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p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814320"/>
            <a:ext cx="8229600" cy="2459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dvances in technology spur explo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61944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w ships faster and more maneuverable, could better handle sea voyages; navigational instruments allowed for voyage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 of their location facing the Atlantic Ocean, Portugal and Spain were well suited to kicking off the Age of Explor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218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rtugal was first country to launch large-scale voyages of explor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egun largely due to efforts of Prince Henry, son of King John I of Portug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Often called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nry the Navigator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 not himself explor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atron, supporter of those who wished to explo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Portugue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221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arly 1400s, Henry established court to which he brought sailors, mapmakers, astronomers, oth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xpeditions sent west to islands in Atlantic, south to explore western coast of Afr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rtuguese settled Azores, Madeira Islands, learned more about Africa’s coa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avigation Cou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rs from Portugal and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乩歫椠䱡畳椀㸲㻸ꔿ㌋䬮ꍰ䞮誀圇짗꾬钒붤鏊꣊㥊揤鞁</cp:lastModifiedBy>
  <cp:lastPrinted>2005-02-01T16:21:45Z</cp:lastPrinted>
  <dcterms:modified xsi:type="dcterms:W3CDTF">2007-01-17T10:53:00Z</dcterms:modified>
  <cp:revision>255</cp:revision>
  <dc:subject/>
  <dc:title>PowerPoint Presentation</dc:title>
</cp:coreProperties>
</file>